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E900-C1B2-45A6-91FD-343549E67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1C37-14EB-4B20-95DA-E041C7BFA8EF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B6C6-4247-4FCA-9475-2FEF3CE3DB1E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3EF1-416F-40F5-BC4E-9ACE5F888E28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74FE-F267-4F3F-94AB-C159A899D77F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1B8E-5737-4710-8EDD-8362C7776DAD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FD47-FB05-40F1-BA3D-775116471540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3B1B-C321-4AE8-8DB6-555A61A87F73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76A1-D650-448A-A353-4304F8192FB6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361-3490-4BB8-B234-E1F79957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186-2C33-4932-9462-5570E105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A92-BF4B-45EB-83FD-6505D117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7A5-194F-4084-9E4B-9D2A57B7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2C71-394B-46B0-939C-84F54CD4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EC42-2C1A-4D56-90E2-D96CAC7B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33FC-CAB8-4048-9BDD-298FBB51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49FA-D6C3-4CBE-B3D9-BC519DA2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5018-E61A-4937-97AA-E8AE015C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2AAA-480B-43F7-A6B7-3A02DB2A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0A8E-49E1-4AC7-9FEB-D66EC6E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D37-AFF8-4EB6-B79B-53D33716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6AB6-498F-4D39-A31F-0E5CCF29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F903-0D5A-4C10-AAD5-443981C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FB3E-383E-4F30-9819-E70EB4AD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E950-AC84-42E5-9B82-B2AE7889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AD09-F2C6-4C78-A836-089D02B1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2FB-F238-4050-8935-1C813C39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B7F-2889-41F7-AF68-E411E008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109-DAB0-43EE-8F40-CA3FB0A6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9BA-0CB4-4705-81C8-3D1BDF30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FAC-1718-45BC-84B0-112F4DF9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3A7-631E-4FF7-BC28-A004AA6D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6F3-3709-4DC0-881D-B8636A94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6E4F-146F-4D2D-A16B-F156D3AEB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8D80-9398-4FEA-B431-915446345718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proul.wikispaces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elcome to Mrs. Plattner’s Algebra Class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troduc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ell us one interesting thing about yourself! Be Appropriate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Expecta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on Tim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Prepare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Respectful and Courteou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llow all School Rul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 Food or Drink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Lavatory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tay in Seats at All Ti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Missed Work when Absen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plattner.wikispaces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alenda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orksheet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e me or e-mail me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- 5 times a wee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4 point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o late homewor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uppli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-ring Bind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otebook Pap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encil/Eras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alculator -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exas Instruments TI-30XII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Online Textbook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y.hrw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tudy Island/Laptop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ww.studyisland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2:16:51Z</dcterms:created>
  <dc:creator>Parkland High School</dc:creator>
  <dc:description/>
  <dc:language>en-US</dc:language>
  <cp:lastModifiedBy>test</cp:lastModifiedBy>
  <dcterms:modified xsi:type="dcterms:W3CDTF">2014-09-03T12:37:33Z</dcterms:modified>
  <cp:revision>5</cp:revision>
  <dc:subject/>
  <dc:title>Welcome to Miss Sproul’s Algebra Class!</dc:title>
</cp:coreProperties>
</file>